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3C0-C1DF-4A5B-9CC4-798EFADD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C58-F456-449C-AAD6-52E279C2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C1B-C731-46CA-BBE9-D1D1962F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FCE-BCD0-47B4-B47B-5064C8F7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BD60F-FA9A-4800-85A2-0E3B84B3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F623D-885D-4274-B313-053C0A89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B7515-C3FD-4A9C-9F5C-586626C7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4741C-1DED-4084-95D4-C46B0437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A9E9C-FCC1-4C9F-A27C-9081FE4E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F6347-28C2-45F0-91CC-496E60F0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DC90D-5092-4A0E-9198-D42D5695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050-0AB7-446A-9771-CEC5419F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EC6FF-6649-4B15-BD42-FBEDE5DB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8CD5E-5B88-4C0B-8D00-2A00E776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C0BBA-7943-4BD3-8AE6-0859F4D8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B2416-02F1-49F0-9ED8-4BF35640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0239A-2467-4CAD-A781-00C445E3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0F5F-CF85-4311-9A21-D0BC849B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B203-E8E9-488E-A978-19DBA76B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2969C-D6BE-4DC5-8EBB-7FEE31D4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FB3F-F48F-45B5-9FD0-12818EB1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731F-A0DC-4E38-92B1-2D0FE8AB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78F-1A73-4199-B854-4DFD440E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20E1F-8B74-4E11-B54E-2F6681F5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18B2-70A7-48AD-9723-3667565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7AFB-2687-48E8-86A8-8724C130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1B68-D9E9-4A23-B7D2-62D7AD42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04D2-7846-4E06-B740-230CCF72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29AE-C8E8-4BEB-A01A-5952F503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3134-9FE6-47E5-AE4B-BC7CAB38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6E405-C541-4C99-887A-0DD3B2C5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C8BC8-75C2-47D5-BD06-E38A2803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73021-3E43-4783-91EC-85021704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F18-84C4-4882-BA1B-D906FFCC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5073F-6B67-4D49-8EC6-722A2C9C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65F38-07CC-46E9-8136-08E737A1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AF1F5E-EE20-47E1-B3DE-7217D8D0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06E520-4493-461C-90AC-730BCBBB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02C5B-6273-4E5B-A9B9-D53A0B9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B44428-E4E3-4709-844C-7094C2A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2942B-06D7-4A25-A3A3-E7E0BC38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740799-2023-48CD-BE3D-29C03E57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8B8B8-00CC-4178-B50F-1CF42007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85D222-E074-4235-94D2-817A00B1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4BF-EF30-4109-9664-6C2903C9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BBDAE-76C9-456F-B1D5-01A60E25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CAB3D-7A28-4721-A3A0-24749E71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961C8-2CC5-42E9-8870-96D3DA6D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9B270-4086-4616-B417-67295037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6244E-189C-4226-8775-29D7A9DF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C29AAB-6ADC-4ED9-A535-EF2F3466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6DED8-0063-4094-9465-6AF4E89F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504CC-589A-4C4F-85AE-6B581B1E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67D24-5167-4A1A-B729-95713903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88248-58DE-4F07-9C32-C6D967CA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A9E-6F6F-4A5D-95A9-A720CB75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019D0-5FE7-40E2-845C-4E5408AC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F270D-7CEC-4934-917C-75DBA9C3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5738C4-FC41-4B62-B6D0-F2D4B037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3CDF22-4128-4237-B02A-1311AA6B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6CD8F-D179-4279-BF1B-626DBDB3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66157-532D-442C-BE99-04410F73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A592F-656D-4EB8-AFB4-75B6ACF5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763D2-5143-4335-9D40-7AFD4459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7864E-4392-4037-8624-2728E819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6D969-DC6F-48B3-9ADB-0E031AD5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1E3-9CD9-4598-9C3B-F295BF73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B0C4B-836E-4F20-901F-03EA72E3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0A57A-69FC-4CBC-A684-62D61E6F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85822-099A-4191-B04F-2946175C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921-99E5-4CA1-B0FB-BE05D88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B7F-8772-4E11-866E-72C6E64A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7185-4595-44D5-BC90-B74D35236D3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3E76-47F9-449E-9F84-DC16A006336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9302-4F2F-488B-9FF7-B3FB987356F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9C70-07E3-44C9-9DD8-B49E74A1700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4E21-425F-412E-A1B5-692D6495DFA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8A21-213D-4C2A-B823-DBF323651D4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3"/>
          <p:cNvSpPr/>
          <p:nvPr/>
        </p:nvSpPr>
        <p:spPr>
          <a:xfrm>
            <a:off x="228600" y="228600"/>
            <a:ext cx="8610480" cy="632448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EDUCA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Oval 6"/>
          <p:cNvSpPr/>
          <p:nvPr/>
        </p:nvSpPr>
        <p:spPr>
          <a:xfrm>
            <a:off x="1295280" y="1523880"/>
            <a:ext cx="6400800" cy="4038840"/>
          </a:xfrm>
          <a:prstGeom prst="ellipse">
            <a:avLst/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2895480" y="18288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STRUC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2895480" y="2743200"/>
            <a:ext cx="3124440" cy="1828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3048120" y="33526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ECHNOLOGY INTEG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01:31Z</dcterms:created>
  <dc:creator>Barsales</dc:creator>
  <dc:description/>
  <dc:language>en-US</dc:language>
  <cp:lastModifiedBy>Barsales</cp:lastModifiedBy>
  <dcterms:modified xsi:type="dcterms:W3CDTF">2012-07-10T13:04:10Z</dcterms:modified>
  <cp:revision>1</cp:revision>
  <dc:subject/>
  <dc:title>PowerPoint Presentation</dc:title>
</cp:coreProperties>
</file>